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BA1F-6E4C-4EC4-8499-1F6B1CAA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2B5D-0762-4011-BEEF-02535B8B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A06B-4BF2-422C-86AB-6ADE035D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D0C3-E3CE-4402-9BF1-315E7619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7484-5740-4CC9-9E63-085A72D4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2944-888C-449B-95D8-BBD58794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BEEE-1941-4F5F-9DE5-ED4703E0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4735-C877-4264-A2CB-13E26277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49A3-AB09-4AD1-AD8B-18815614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798C-C1BA-4EE0-B95E-0822AA54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08D4-01BD-4C9C-B982-C070B829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A5BB-B654-4870-99EC-F1B34F54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BEAA-BED1-431F-83E9-761513533F9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980640"/>
            <a:ext cx="8424720" cy="482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ب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 أساليب التحليل الكمي المستخ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تحليل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2114-5B99-4776-A223-6618DF5EF54D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تحلي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455920"/>
            <a:ext cx="358164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مشرو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3809880"/>
            <a:ext cx="3581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صنا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15772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ستوى العالم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ADE8-3768-41BB-8293-ECAE15278E54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41600" y="1477800"/>
            <a:ext cx="7660800" cy="10314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ساليب المستخدم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6560" y="3366720"/>
            <a:ext cx="7585200" cy="2162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قارنات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عدلات التغي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توسط النس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847C-CF4D-4AAB-8153-C94D0B355D23}" type="slidenum">
              <a:t>3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203120"/>
            <a:ext cx="7772760" cy="763920"/>
          </a:xfrm>
          <a:prstGeom prst="rect">
            <a:avLst/>
          </a:prstGeom>
          <a:gradFill rotWithShape="0">
            <a:gsLst>
              <a:gs pos="0">
                <a:srgbClr val="e7e5e1"/>
              </a:gs>
              <a:gs pos="50000">
                <a:srgbClr val="ffffcc"/>
              </a:gs>
              <a:gs pos="100000">
                <a:srgbClr val="e7e5e1"/>
              </a:gs>
            </a:gsLst>
            <a:lin ang="5400000"/>
          </a:gra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نزعة المركزية (المتوسطا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492280"/>
            <a:ext cx="7772400" cy="381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توسط  = المجموع/العدد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خاصة على مستوى الصنا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وسيط = عدد المرات +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 /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نوال = القيمة الاكثر شيوع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CB5A-18F0-493C-B8A5-82B4B22034AD}" type="slidenum">
              <a:t>4</a:t>
            </a:fld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11280" y="1699920"/>
            <a:ext cx="7772760" cy="912240"/>
          </a:xfrm>
          <a:prstGeom prst="rect">
            <a:avLst/>
          </a:prstGeom>
          <a:gradFill rotWithShape="0">
            <a:gsLst>
              <a:gs pos="0">
                <a:srgbClr val="c7cfc1"/>
              </a:gs>
              <a:gs pos="50000">
                <a:srgbClr val="ffffff"/>
              </a:gs>
              <a:gs pos="100000">
                <a:srgbClr val="c7cfc1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اختلاف والتشت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1400" y="3571920"/>
            <a:ext cx="7716960" cy="23781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e7e5e1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عرفة مدى تجمع قيم النسب المالية أو تشتتها حول المتوسط الحسابي عن طريق حساب الانحراف المعياري لكل نسبة من النس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3E3D-4E02-4900-86D5-9F5C39F3975D}" type="slidenum">
              <a:t>5</a:t>
            </a:fld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1058760"/>
            <a:ext cx="777276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اقات الارتباط والانحد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2920" y="2427120"/>
            <a:ext cx="8893080" cy="402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رتباط هو التلازم بين متغيرين تلازما كميا بحيث تؤدي الزيادة في أحد المتغيرين الى زيادة المتغير الآخر أو العك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يقاس عن طريق حساب معامل ارتباط بيرسون أو سبيرم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قربه من الواحد الصحيح يشير الى وجود ارتباط قوي موجب بين المتغير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641664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F4BB-6788-408B-833F-7B9846C76CCC}" type="slidenum">
              <a:t>6</a:t>
            </a:fld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Abu-Ali</cp:lastModifiedBy>
  <dcterms:modified xsi:type="dcterms:W3CDTF">2004-04-06T17:12:41Z</dcterms:modified>
  <cp:revision>22</cp:revision>
  <dc:subject/>
  <dc:title>التحليل المالي والائتماني</dc:title>
</cp:coreProperties>
</file>